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5D5C7BE-C230-4BE8-8AB9-B27FCE4AB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F5BD02F-A210-4485-A390-BD7562F7E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5B67BF7-53B7-4721-89AC-46932FF7E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FD7E302-35F1-44AD-B30A-632E5CA64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702C-4713-4747-A4AE-274493E99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AC49-50DA-482D-A053-9387EB3A2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AA11-8D02-4134-BFF5-01601876B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8889-154B-4F14-BE59-2EB556D52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5BB7-53C5-4BF8-8587-B0D8913817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5818-D403-4DAF-8EC0-5A53FF779D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210F-154E-40F7-8163-5EAF600F2E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8F03-8611-463F-A942-E9921C21F4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0DD1-67AD-495D-A31A-B06A66EFA1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04DF-D146-46E3-8824-21FC3AEA80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F076-32E9-48C5-8254-7905095FF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9C34-16CF-441E-8D06-8A5F9AB2E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02CE-5E0F-4E09-978B-3CA14B7671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4ABA-22FA-4EB7-88A0-18117E3424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6386-7B98-46C3-AC90-4505971598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86E47-B54D-40E7-AA29-EE94DB9E17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8054-CB2C-46FA-8E37-71250FEF15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9742-E531-4503-846E-96C4B5888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39D6-9638-4480-A3E9-0245B4EC2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6131-44DA-4D7C-BA55-B29A981FC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7C97-6EC2-4E9E-86B1-04E6C4E04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FA76-D2F7-4683-AFB5-988EE652F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940A-B9DB-45F0-8FBD-2DE5E7AF6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5CBB-EC99-4EF6-A007-7CE8CCD77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6132-5FD8-4887-85CB-0426CBA62C7C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A303-EB76-4A4B-BFD4-4BF6056CCBB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</a:t>
            </a: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8</a:t>
            </a: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Preliminary findings</a:t>
            </a:r>
            <a:br>
              <a:rPr sz="3200"/>
            </a:b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00000" y="4292640"/>
            <a:ext cx="745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lrike WEINSP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pdesk Evaluation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4FB4-2DCF-4F81-BC76-70E02F80043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52480" y="501300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help improve ongoing evaluation systems in the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AT IS THE PURPOSE OF THE 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852480" y="256536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enhance the quality of evaluation reporting by fostering consistent approaches across the 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52480" y="3733920"/>
            <a:ext cx="82915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identify and promote good practice in conducting and reporting about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52480" y="150012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valuation Helpdesk prepares it annually,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B47D-B87A-46B1-A67E-3520D9F6CEB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port on progress on every component of the ongoing evaluation syste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rovide more detailed information on all relevant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your reporting on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activit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ed or underway and provide a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timeta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activities planned for the following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king into account that most APRs (for 2008) were already drafted by the time th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nthesis was presented, these recommendations remain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MINDER OF THE MAIN RECOMMENDATIONS FROM THE PREVIOUS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0BAF-3E1B-4482-95B9-3832B7D4D5B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tion on ongoing evaluation in the APRs reviewed this yea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varies in information content, quality and leng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 describe sufficiently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stitu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tle information is provided on reviewing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25% of APR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evaluation ques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AP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review of indica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ddressed in 50% of APRs, but little detail is provided on how this was done and what were the mai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an 50% of the APRs refer to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ethodologies that will be used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ENERAL FINDING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FROM APRs FO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7971-B99C-4FAF-8AA6-6C535E966AC7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720" y="-27360"/>
            <a:ext cx="6335640" cy="129708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VERAGE OF EVALUATION SYSTEM AND ACTIVITIES (2007 and 2008)</a:t>
            </a:r>
            <a:endParaRPr b="1" lang="en-US" sz="2000" spc="-1" strike="noStrike">
              <a:solidFill>
                <a:srgbClr val="006463"/>
              </a:solidFill>
              <a:latin typeface="Arial"/>
            </a:endParaRPr>
          </a:p>
        </p:txBody>
      </p:sp>
      <p:graphicFrame>
        <p:nvGraphicFramePr>
          <p:cNvPr id="112" name="Rectangle 13"/>
          <p:cNvGraphicFramePr/>
          <p:nvPr/>
        </p:nvGraphicFramePr>
        <p:xfrm>
          <a:off x="530280" y="1700280"/>
          <a:ext cx="814392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Rectangle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700280"/>
                    <a:ext cx="81439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DF5C-7F75-4179-A73C-8A0382A51327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rding to Art 82 2) d) of Council Regulation 1698/2005, MS are requested to provide in the AP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umma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1" lang="pl-PL" sz="2000" spc="-1" strike="noStrike">
                <a:solidFill>
                  <a:srgbClr val="009999"/>
                </a:solidFill>
                <a:latin typeface="Arial"/>
              </a:rPr>
              <a:t>f their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evaluatio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if these summa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ain on a general and abstract level,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be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difficult to assess the progress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on ongoing evaluation should not just be an additional burden, but rath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timulate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ongoing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e an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exchange of experience and good pract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onductin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e to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continuous capacity building and intera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valuation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R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AS A TOOL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17C7-1A1E-4F9C-B89C-B3530D8EAA27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463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 is essential that the fine-tuning of th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review of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dicators and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s carried out in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eparation for th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preferably in 2009) and properly reported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information is need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Methodological 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S are undertaking or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he different activities of the MTE are organised (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perational plan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and what ha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een or will 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ne including milestones, timelin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ssist MS,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ore detailed explanatory not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010 reporting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RECOMMENDATIONS TO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OR REPORTING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E3EB-EF37-46CA-B391-74F3110D2CB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17FA-3B36-4192-86FF-A8B7BE0753A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xplanatory note follows the indicative outline provided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ance Not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0076" t="7346" r="1949" b="48359"/>
          <a:stretch/>
        </p:blipFill>
        <p:spPr>
          <a:xfrm>
            <a:off x="928800" y="2060640"/>
            <a:ext cx="7132680" cy="38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Oval 5"/>
          <p:cNvSpPr/>
          <p:nvPr/>
        </p:nvSpPr>
        <p:spPr>
          <a:xfrm>
            <a:off x="1979640" y="2205000"/>
            <a:ext cx="865080" cy="2890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CMEF HANDBOOK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5FB7-A541-49E9-B90B-BA2509CB96B4}" type="slidenum"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29:20Z</dcterms:modified>
  <cp:revision>344</cp:revision>
  <dc:subject/>
  <dc:title>EENRD presentation</dc:title>
</cp:coreProperties>
</file>